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302-687D-42EB-BEDC-E0B48B50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DF2-4794-4AFB-BCC2-A0A0247E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EAF-3879-4EB4-9CBF-4C02430C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006-9C7E-4AC1-AA7B-1BC44C50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E7A-FAA2-466D-98FE-7CAAC9AB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AA7-9FF7-4F82-AA24-2B4E2ACF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D6E-3372-412D-8531-8385CC48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CEA-E9C9-4368-852D-642A128F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B47-1725-48E0-8CD1-04688329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C95-2CA0-4284-859A-98614EBE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94E-6A9D-48EF-AEDE-2B9A1D2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0E7-2E9F-49DD-BAF4-B7D5726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AC9E-E3DB-4EA8-A086-F9AFB5F5B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4560840" cy="3405240"/>
            <a:chOff x="0" y="0"/>
            <a:chExt cx="4560840" cy="340524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4560840" cy="340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6800" y="196920"/>
              <a:ext cx="3605040" cy="2681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68320" y="1541520"/>
              <a:ext cx="149400" cy="38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33360" y="1541520"/>
              <a:ext cx="139680" cy="212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87600" y="1541520"/>
              <a:ext cx="150840" cy="212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52640" y="1541520"/>
              <a:ext cx="139680" cy="314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08320" y="1541520"/>
              <a:ext cx="149040" cy="92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71920" y="1303200"/>
              <a:ext cx="149040" cy="238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36960" y="1136520"/>
              <a:ext cx="139680" cy="405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90840" y="1127160"/>
              <a:ext cx="150840" cy="414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5880" y="1127160"/>
              <a:ext cx="139680" cy="414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1560" y="1127160"/>
              <a:ext cx="149400" cy="414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8640" y="2878200"/>
              <a:ext cx="7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8640" y="261000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640" y="234324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8640" y="207648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8640" y="18097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8640" y="15415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8640" y="126540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8640" y="99864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8640" y="73188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8640" y="4651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8640" y="1969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6800" y="1541520"/>
              <a:ext cx="3605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668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1304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48608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849320" y="2838240"/>
              <a:ext cx="18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205000" y="2838240"/>
              <a:ext cx="18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5686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933640" y="2838240"/>
              <a:ext cx="18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28932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65292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086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42840" y="1579680"/>
              <a:ext cx="36540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08240" y="1790640"/>
              <a:ext cx="3632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1480" y="2011320"/>
              <a:ext cx="35568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27160" y="2324160"/>
              <a:ext cx="3650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392200" y="2185920"/>
              <a:ext cx="35424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746440" y="1790640"/>
              <a:ext cx="36504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111480" y="1375920"/>
              <a:ext cx="36360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475080" y="961560"/>
              <a:ext cx="35568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830760" y="557280"/>
              <a:ext cx="36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42840" y="1541520"/>
              <a:ext cx="365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08240" y="1541520"/>
              <a:ext cx="36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1480" y="1541520"/>
              <a:ext cx="355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027160" y="1247760"/>
              <a:ext cx="36504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392200" y="1118880"/>
              <a:ext cx="3542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746440" y="1109160"/>
              <a:ext cx="36504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1480" y="1109520"/>
              <a:ext cx="363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75080" y="1109520"/>
              <a:ext cx="355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30760" y="1109520"/>
              <a:ext cx="36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6480" y="1504800"/>
              <a:ext cx="74520" cy="74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70080" y="1504800"/>
              <a:ext cx="74520" cy="74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35120" y="1504800"/>
              <a:ext cx="74520" cy="74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90800" y="1504800"/>
              <a:ext cx="74520" cy="74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54400" y="1211400"/>
              <a:ext cx="7452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09720" y="1081080"/>
              <a:ext cx="74880" cy="74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3320" y="1073160"/>
              <a:ext cx="7452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8360" y="1073160"/>
              <a:ext cx="7488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600" y="1073160"/>
              <a:ext cx="7596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57640" y="1073160"/>
              <a:ext cx="7452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5720" y="2803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720" y="2536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5720" y="22701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5720" y="200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5720" y="1735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00" y="146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2080" y="1192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2080" y="925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2080" y="657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080" y="390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080" y="123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548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7908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4412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9836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340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1908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268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772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160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8840" y="2949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640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-618480" y="1420920"/>
              <a:ext cx="178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e Cash Flow, USD mill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06800" y="2343240"/>
              <a:ext cx="261720" cy="73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5520" y="2297160"/>
              <a:ext cx="89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06800" y="2546280"/>
              <a:ext cx="26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96600" y="2462040"/>
              <a:ext cx="91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ative FC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06800" y="2720880"/>
              <a:ext cx="26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0400" y="2684520"/>
              <a:ext cx="7452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94800" y="263844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3704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5:37:08Z</dcterms:created>
  <dc:creator>Frank</dc:creator>
  <dc:description/>
  <dc:language>en-US</dc:language>
  <cp:lastModifiedBy>frank crundwell</cp:lastModifiedBy>
  <dcterms:modified xsi:type="dcterms:W3CDTF">2007-08-16T16:32:33Z</dcterms:modified>
  <cp:revision>9</cp:revision>
  <dc:subject/>
  <dc:title>PowerPoint Presentation</dc:title>
</cp:coreProperties>
</file>